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6108-258C-4862-A4FF-A3DBD5A011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B8A-1E53-4393-A8A1-82E09C71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58B-68CA-4D26-B32F-D02B7B15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2BA-6836-4BBF-8D85-DD6A7FF8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304E-CE89-4C14-962C-2360C7D0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24A0-A1A4-4AFB-A9CD-66661AE0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AACF-4DB5-4127-8F71-8725EBB8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19C3-B541-45B5-914C-B35606DF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2AC5-C4AC-4E4C-B78F-071F470F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2B39-5504-4205-B99B-9766A324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AB01-7A56-4299-B284-33BFCFC1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A38E-8B46-4C6E-B60A-8EBAD373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5B2C-2628-4493-8212-EFE3116F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4954-BB4C-416E-980B-6F4102FE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238B-9342-4291-91F3-AF5B5C62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7BD5-234F-48F9-AE8A-70598D3D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5692-CFC8-48D1-A1A8-759AF7AE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1F17-60CF-4105-A143-11305430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761-0608-470C-B8F5-DB2C6A1F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FEB-D7D3-4B31-9BA7-63924B4C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86F-C24B-4855-A65F-D2C5016A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F99-0473-44DB-A316-DB92A2DA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380-DEA7-4983-A820-D5666F9C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699-1816-414D-9E31-7E8F9AB5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EE1-2F46-410C-A41E-D272F2FD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489F-DD15-4D5F-9BBF-7EEF2D2C32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A714-367E-4DC4-AAC5-32950239C81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are blood vessel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bloodves"/>
          <p:cNvPicPr/>
          <p:nvPr/>
        </p:nvPicPr>
        <p:blipFill>
          <a:blip r:embed="rId1"/>
          <a:stretch/>
        </p:blipFill>
        <p:spPr>
          <a:xfrm>
            <a:off x="5580000" y="1413000"/>
            <a:ext cx="1762200" cy="51847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rte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rteri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 They carry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xygena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22248823"/>
          <p:cNvPicPr/>
          <p:nvPr/>
        </p:nvPicPr>
        <p:blipFill>
          <a:blip r:embed="rId1"/>
          <a:stretch/>
        </p:blipFill>
        <p:spPr>
          <a:xfrm>
            <a:off x="2411280" y="3206880"/>
            <a:ext cx="4608720" cy="34621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Ve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Veincrosssection"/>
          <p:cNvPicPr/>
          <p:nvPr/>
        </p:nvPicPr>
        <p:blipFill>
          <a:blip r:embed="rId1"/>
          <a:stretch/>
        </p:blipFill>
        <p:spPr>
          <a:xfrm>
            <a:off x="5796000" y="1484280"/>
            <a:ext cx="2000160" cy="4734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apilla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image?id=92806&amp;rendTypeId=34"/>
          <p:cNvPicPr/>
          <p:nvPr/>
        </p:nvPicPr>
        <p:blipFill>
          <a:blip r:embed="rId1"/>
          <a:stretch/>
        </p:blipFill>
        <p:spPr>
          <a:xfrm>
            <a:off x="2771640" y="3789360"/>
            <a:ext cx="3048120" cy="285768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2:47:28Z</dcterms:created>
  <dc:creator>CEC</dc:creator>
  <dc:description/>
  <dc:language>en-US</dc:language>
  <cp:lastModifiedBy>LEGION2</cp:lastModifiedBy>
  <dcterms:modified xsi:type="dcterms:W3CDTF">2016-01-14T14:09:19Z</dcterms:modified>
  <cp:revision>7</cp:revision>
  <dc:subject/>
  <dc:title>What are blood vessels?</dc:title>
</cp:coreProperties>
</file>